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1E06-709C-4F99-8CF4-A316F1E13D04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’ERAGN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 416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8% d’employés et d’ouvriers, 20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7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ux de chômage de 1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,4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4,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0% des revenus entre 7 682 € et 37 961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,5% de la population et 20,7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eur de Développement Humain (IDH2):0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 de ville 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quartier en Contrat Urbain de Cohésion Sociale (C.U.C.S.) depui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de la charte «ville active du Programme National Nutrition Santé»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 et réactualisé réguliè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5,8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es médecins généralistes en secteur 1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tter contre la mortalité infan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jeun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senior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server l’offre de soins présente sur la com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6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200" y="1522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Rectangle 3"/>
          <p:cNvGraphicFramePr/>
          <p:nvPr/>
        </p:nvGraphicFramePr>
        <p:xfrm>
          <a:off x="849240" y="1047600"/>
          <a:ext cx="7972560" cy="47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047600"/>
                    <a:ext cx="79725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953600" y="3808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Rectangle 3"/>
          <p:cNvGraphicFramePr/>
          <p:nvPr/>
        </p:nvGraphicFramePr>
        <p:xfrm>
          <a:off x="324000" y="838080"/>
          <a:ext cx="8582040" cy="51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8080"/>
                    <a:ext cx="85820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920" y="30492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1-04T09:33:16Z</dcterms:modified>
  <cp:revision>26</cp:revision>
  <dc:subject/>
  <dc:title>ESSA</dc:title>
</cp:coreProperties>
</file>